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0677-1C11-4BDC-8E82-77F1BC0D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C761-C9D8-4319-A093-713ADBCD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662EA-E269-4F10-BEBC-3CCF0B45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774B3-B158-4BEB-BD78-F848D7DA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402BA-4A98-4DCA-AABB-D4076B70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C18FA-3DD2-4C84-9A60-9B8839EA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D586F-5ED2-4E27-9B7E-0ECA4001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4409F-A6C4-4EA3-AD89-DFB3E2F0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A321B-2F67-44EE-8DA5-5D2AC1D7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120B6-3B69-40C0-A39E-AC6996AF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07CDD-C878-459C-8003-7B0654AD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427D8-E201-4E0C-9772-D5F1FAA9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B026-D61C-4058-A134-115CDEA9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74D53-0E61-4F8C-867D-2724868F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21079-FFE1-4279-9432-D1A049C6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4C384-B140-4093-9CB9-AD0FAD55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E6835-D1CE-4C12-BA9A-1ECC9096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6E48C-6B5A-45F2-AA12-03F67E8F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648A1-C1C3-4157-9E0F-9D22AB7E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54A29-0617-4D33-B67E-FEFF4264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84578-944C-489E-80AA-4462D9D6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8116F-A85A-4E50-9818-47624CE7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3403E-0D88-4648-BF4A-BCB239BC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7580-2787-470E-B5DE-435C77C1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F2718-D524-46EB-9504-7025F83A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AA344-34BE-4B46-99C2-91CDCB61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CA348-44A7-4AE7-8206-BDB678A0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D2519-7A42-4A23-BD9D-9B0712B8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38266-3D3C-4C7D-96E9-1BBF2F83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03CEA-166D-4EE8-B6FA-EBCF7ED4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02CF5-921F-401D-A622-9041B221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F5D3D-8457-421B-9074-822AFB42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66365-B744-4815-A9AF-32027DCB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01558-145D-4F9C-A6D3-BF8FAB52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A2CF-418A-4AA3-A1AA-D6C32A7B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FE93D-EB82-491A-A3DB-5CE46896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C7182-D45B-4E28-B445-1A57BA76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C2185-485D-4783-9C45-EFC65DA2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6737D-CF6A-46B4-8D57-BBEFBCEA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9684E-26A6-4102-93DD-EC0BCCB8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0EF66-7672-4719-BC25-19251F1E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D093B-143A-4908-99A6-F05A1202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04FA5-21CF-4DDA-828F-29567A92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ADB3F8-EEEC-4D68-9F0F-15E19376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6626A-C03B-4CBD-A909-69CC0441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E579-EBC1-4C85-960A-E6E0FBB4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1F4C0-612A-4586-ABB5-3380E12C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EEB53-BF7F-453D-9DA7-1F4DCC7C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6B1D3-784D-420C-BCB4-7A217F74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87541-AB3F-4159-83ED-19196197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1BA6B-00FE-46DB-AF45-2EDD2F4D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0520D4-4587-4F78-9484-D451BE5D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6F8F1-AB32-409B-A773-74C35F07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9FE9A7-699F-4090-9C30-DAFB7895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17CC41-773E-432A-8A4B-D46B33ED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CF2750-FEC6-43DA-AFD4-3858705F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51A1-383D-46D2-B3C7-7A9E2A7D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945791-AFD2-4966-8D4F-5E98B8FA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3E4AA7-CDE7-4C58-9402-16405825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6492A3-1296-4C1A-8A30-AF2C79A1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AAB3CD-6536-49B7-8A0D-BB10A3B8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6A4774-DD41-4478-9DD0-65F6829C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B6D61C-1D6A-4CBA-B2E5-990A4DD4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569C96-BDEC-4E6A-8273-F3CEF4E8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53275A-6A04-442B-844F-75509EEC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57B268-C912-433E-B3D9-7FB746E9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06D96E-3F26-40E1-B8E8-A6C65357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D4C1-D9AD-45A7-A109-2D994725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D6F4D3-3922-49E7-BF16-3839DD4A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77470B-937B-45DC-8609-59089974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BBBD39-83F4-4C2C-9614-52DD32F0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B8C3DE-2472-4512-A975-7BDCAFBD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FB9CBF-1D62-432D-BD28-88D60350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283D7D-AB20-4099-BD30-94869186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F42B98-BC67-42CB-A364-D593158D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1EE82E-1B49-4486-87C1-0CD59B5E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534602-4F1A-4A59-B75B-C40286D0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74DF52-1835-470B-AF73-0E5DCB93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5A44-A171-416A-AD67-EBD113AC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9A2FB7-5C86-4DB2-8D1C-ECC90573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AA408A-7AAA-4CD7-9A81-47A79278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7A1CCE-C927-49CB-B589-073A8482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62AE1F-0E0E-411A-85B1-61DD02E1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5AE34B-E586-4360-AFE8-F1A65D33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ABD391-4259-4832-90E5-5139B56A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9322B6-E9B0-44B1-BC96-06D413C1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38BF48-CBD2-435C-A34F-DF9D0A4D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98B07F-1550-44A3-8CFC-8DB6A06C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505916-C89A-4706-9998-AFF10F4A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95F3-422B-45F5-A579-EC4D06E4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433BC8-867F-4326-B013-D75B7B16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711036-A502-4CF1-A65E-672ED33D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2F36CC-82CB-45D7-BEEE-5ACD610F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85EE62-9929-49E4-B122-44395565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53222C-C729-4E9D-BBC8-B8A284BD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C5261E-EFD3-454D-9AFC-A1F86431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9E50BF-AE52-4676-899F-A339645F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422256-8030-4A95-8199-4011464D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C97A81-EC5A-4282-B2FC-BC6105F4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08591F-3BD7-44C4-8739-B6CCE562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35B5-FEEE-409A-8B1B-B052C3CE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620326-BBD7-485A-B2FA-5FE6B4A0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C67BA3-3BF2-487E-A0A8-8F8A293E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5D14DD-AD06-4CA6-A2BD-2735C2E3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B882AF-5FAF-4118-848C-FDB2700C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04FC32-184B-4B87-B386-FCC1FCAD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F99F06-C42C-48D2-BE4D-B1E3BBE4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D5BD8D-C704-47E3-AF1B-2B8E8F82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B7B17B-AA60-4E2C-B07A-1CCA98AD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EF61BC-8F9B-4275-BA3A-0C01BA34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50F569-0905-4B8A-85DA-135DE5C0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D5D7-6937-4E89-B3CC-A9320F05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EFF1-39D4-459C-91BA-470E9291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373879-DD51-4985-90AF-C621E709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5FE33A-A82F-41A5-9822-9D70ABEA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3F5FE3-7E3C-406A-9B77-92557594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9FFCC2-A16B-4B2F-9378-12FD3E77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A0A745-67EC-4FEA-91C9-AF7D7530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0188A3-CACB-4668-963A-82CFB4A4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9D5DE2-6E4D-43FA-B4BF-6748F0BB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FF195B-BE61-4645-8900-72FBD6D9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2CA877-EA38-43BF-AA53-07A40916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604947-8E5E-46A0-A5BE-185F67F0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A4B1-FE63-478F-8957-69ADA07A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37B256-8D56-41E1-85DF-8469BD67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194F0D-904F-458A-AC46-D3FCED27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5C4441-8BB3-4C81-8131-92DA4D45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1A0A34-B5E1-4C75-B8BA-8906198E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6BA23B-9EC6-4F7E-9281-82F93670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F05F46-9A4E-4117-AEC9-B3C2540B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F50A9E-EA8A-4FB5-A72F-8CE51ADB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3491E7-F288-4361-9174-0B5417C9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68C8EF-EE62-4C74-9572-998A39A6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7AD3CD-EF89-4219-9CE3-0E429CF0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7962-8B9A-459A-8920-B2947224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87EAA9-CDBC-4A8B-8A79-F1FCFB5F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A6732C-7269-4690-B840-CF5BCBF9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B6F347-20A7-4096-9D13-7C5BFEC4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5748DA-CA4D-4AFC-B025-A5E0DBE6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1E7128-E4DF-4E73-9811-2B41F7E8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0CF99E-8D9F-494E-AB44-B5AC7C07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8F7239-9C69-403E-BDDC-17770009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DC8F51-70C5-48A1-A367-F9260CCF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8695FD-11C4-4916-9106-5516B6BD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64A1B6-0B96-4E91-ABE5-498717E5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AA78-46CB-4C39-8E6A-2FA47E41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FEC81B-E73C-4B1B-AEA0-B6791497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2E3677-C932-44DB-A0D2-7A2EB3B6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FCA7E2-5DA0-427F-B621-21819402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267F9B-C78C-40A0-A717-42ECC05D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59FC0C-04DF-4AF8-9D13-B8B16667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C62FE8-D1C7-4002-8038-4C0CF01A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EC75E3-AF29-49DC-AE7B-CF1EEE28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0CFB51-8E3E-483F-882D-7E085330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1ECF03-2A24-4AB2-9EB2-F728BCFF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11AD8B-D60D-4E78-8D48-8E9139CC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64F3-5E86-4B58-95A5-C8A2D8E2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BEB611-D843-431F-AD3D-0E524F54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031611-1C8F-484C-8E4B-0B475215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54CA69-5190-4015-8D69-87BAF371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E3E80A-4483-4B8D-8CFD-8DED35F7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111601-D6FC-4CD3-B7AF-C4E37A62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386A6E-28A1-41E5-A486-2B07A95F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49DC03-50F9-4DA2-9C64-EB722D19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E90346-4CD5-460F-AC4C-CB81057C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D77838-6072-409C-85B7-6D328F59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683CBF-6176-4FBE-A71E-80BD0CB2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3B32F-220D-47F9-BFC3-44D24BB9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492D8F-09F6-4F37-8C3B-3A4B3706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354A5E-5B05-4611-BA59-03CFC82A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E5CA40-FAB0-44FE-B5A8-A5F69DED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8B39D-AD85-4D56-9A04-B42AFF5E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AA58B-6738-40DF-AB4C-C3A85CDC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6CCBB-30D3-4C72-B1D6-F3E5949F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A9084-0D0C-4834-97B5-90B3DE33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8C92-42A1-46FD-82B1-46751A70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99C44-8108-4727-954D-63E80E19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427E7-85A6-4184-8CA6-65C49DEB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9AF86-6E7D-4806-8F38-FF5B238F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58D62-AA8A-45C7-B1A6-8C84BC2F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79D56-F2A5-478B-8714-B49EE959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CAF57-8BA3-43E0-AFA2-4A80FCED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C546C-FFBD-414E-AC6F-9D1A3377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448D1-2BEF-4E7A-9FB7-F9EFB3FD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33CCC-0BAF-470B-8DE0-84EFA4C7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6BEA8-3A2F-4EB3-9D35-F671B693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27B2-01ED-4080-A117-23FE0D85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34357-B1B0-425B-BF25-CCD885DC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43C74-615C-4ADE-81A8-39BAC634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46436-2A78-4144-9F92-3CB32696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F2555-4F0F-49A8-B335-0165AF9C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05645-404E-48B0-924B-6D372F09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90800-236E-4C81-9905-97398FB7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665B5-D1AF-48A5-88D7-6C359579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8A84F-F6EB-4393-B040-DAD7A384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8D307-CC2E-4FE9-B9ED-67BEC3DA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C3321-C245-49CD-9D2D-704DA133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F2C4-F666-4840-9FDA-3B0DA772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2BDBF-1E7B-4D96-9C8C-256B7498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5A61D-4E7A-4BCF-9609-35027C49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57D16-0A57-4137-9D37-FFCCB0E7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DC054-1C97-4C8B-A66B-E860AF85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C206B-A4FE-4D02-98BF-37B10008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E0FA3-CFCD-4FA8-B229-B0D34463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30277-43C7-462F-9158-4F66E7E7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9BFE6-258E-433C-84C8-9D57DE6A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68506-86FA-4FAB-86BA-F32B5CA1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FEFAF-B811-4A94-95D6-1FFC6E44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EE20-D5A2-4B4A-B306-A20CB135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54B04-31BF-4D73-BAC2-FD2B8D0D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D1F44-2221-48AE-8E12-D52F2D8D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60AA2-E28D-4EC9-86D1-21BB494E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C54F9-161C-447A-A6BF-FFBDC510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8D359-9B11-45A8-A277-BD76CE1E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DEE6B-BA72-4EDE-9F2C-528688D5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FEE62-F940-4EA0-AA3D-09ADB303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AA607-A7CC-4760-ACC8-5BE9B574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0A5DB-CBF1-4161-AC0E-E9D614E0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2B293-0242-47C4-8FD0-1A2F2F92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B620-DBDD-4F31-94F9-608A4DD3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89FD6-FB39-4425-9675-D479F5C6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4F4F9-4C0C-40B7-BF39-33759786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902E0-7107-40F0-B563-96720956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CF1C9-FC93-4675-A3E8-AF89FCFD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C36F6-8A20-4AA4-B071-67AD18A4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1971F-00CD-450B-957F-932F072E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48A46-1D56-456C-AA20-9637694B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63F54-700F-4BC9-8C7E-5B8228C4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CEEA2-5E13-405B-82A3-47D17291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A130E-9334-40C0-8102-C7594D68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3A3A-0394-49F3-9952-60C8010E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B7D2B-70AF-4AF8-B914-72D8D5E3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D1A57-0B86-473A-BFA7-FF9B027F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D43A5-185D-4D49-80AC-89526C79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08EA4-8CD2-420E-81B0-9DA5FEF1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92EA1-7EE2-4D57-BE4E-034E34CF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3560D-E309-4E18-B120-960DF14B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D0DF1-B256-406F-A2AA-F28E55F9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C16AE-3960-42D5-B6C1-73C169C4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C425D-E54E-4999-9CD8-DE93121A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1C0DF-3336-4F0D-9B6B-DB7005A5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8118-E182-46AF-A2AE-6C015E7A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2717D-C5A0-4B3D-85F3-7D3A1C9B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19DD8-0C39-4650-80DD-F06A432D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96DA4-56D2-4AD1-B162-E559DA83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42182-F2E2-48BC-B8A6-B0CE535D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6BEC4-D02E-4623-A430-16E7E9BE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DA8E4-4967-4C75-B24F-01904500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8D714-528E-4CE7-A0CB-C32EAD4F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4EFFB-854C-40F3-AEFF-56928EA8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3AD05-A3B6-46C7-BFE9-0280B83C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30006-932B-460B-A31D-9ECB946D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38F3-E0AB-4322-933E-54F7CC9FB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1D3F-0903-449A-8321-5A16761F35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69F3-9817-45C1-9BF4-9F2275B786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259F-F982-4134-87C6-D63A6C4563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1293-AE77-4B0B-999B-25FFB156DC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455A-23C7-426A-9FE8-1C6067218A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E72E-2776-4B0E-8D40-2F3002C3C8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963A-0B6C-4B38-815C-393E895DEF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7BEF-ADD8-41B0-891C-71142BBF1A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2D9B-8E08-4A1F-9881-928A2ADF70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2281-DD7B-40D7-B884-8EA6C32CD8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F125-3511-4992-98E8-71710CDD9B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8BE2-CF3D-4703-A68C-93788222FC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54AD-EC4D-4666-8B20-407685F250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AC66-5AC5-4A7A-95A0-F9122E5D7A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8035-3DF9-457B-8FD3-2183C196C4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E9CB-ED49-4CF6-9933-6336897909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4347-CC45-495B-A747-6DEC522E46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7778-7732-4F24-9644-FC88A6B1EB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7472-A5E1-4AAD-B89A-C0F0AD9566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1BA4-5DDC-421D-A514-6DC9175FC8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C27D-09DB-49ED-B35C-374B150AB0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F8E1-3A63-47DA-8AB5-93722B36A4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A3BD-BC01-4CBF-9CF6-778A1D34E8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94FD-D0C9-43CC-B24B-27C122A5D2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AC02-AE5B-46AF-9744-8157EBB19F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1F19-EB6C-4DC9-881F-F34FF2FB29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7D17-61DB-480A-AAC0-CC9C091FC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A7E8-2F1D-48B9-940B-7E0F8852E7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C395-D7A4-4467-8A54-0179DB8052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535C-5C9D-40AE-8508-6E6040D486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A72C-15B5-49C7-8A49-138C96A412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8165-7089-4B6E-97E4-741ACB996F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2604-64B0-4F1A-B8B9-71D1378EA3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EDB7-481A-44A6-B6F9-F6AA662DD6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0D3F-3F6F-4A66-BC32-59096DFA2D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4D64-9A80-4040-A85D-5E268C770E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3B46-0A36-43CC-85FC-E80C98507C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BA6E-3469-4B46-80C0-1AF4C93AD9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716E-268D-4723-B72A-AD180502EB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928800" y="2857680"/>
            <a:ext cx="7705440" cy="73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8505720" cy="59533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642960" y="2693880"/>
            <a:ext cx="5428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333360" y="714240"/>
            <a:ext cx="8477280" cy="48387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2" descr=""/>
          <p:cNvPicPr/>
          <p:nvPr/>
        </p:nvPicPr>
        <p:blipFill>
          <a:blip r:embed="rId2"/>
          <a:stretch/>
        </p:blipFill>
        <p:spPr>
          <a:xfrm>
            <a:off x="271440" y="5581800"/>
            <a:ext cx="8515440" cy="1133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3"/>
          <a:stretch/>
        </p:blipFill>
        <p:spPr>
          <a:xfrm>
            <a:off x="642960" y="78588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4"/>
          <a:stretch/>
        </p:blipFill>
        <p:spPr>
          <a:xfrm>
            <a:off x="642960" y="3173400"/>
            <a:ext cx="542880" cy="4316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5"/>
          <a:stretch/>
        </p:blipFill>
        <p:spPr>
          <a:xfrm>
            <a:off x="642960" y="5641920"/>
            <a:ext cx="5428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"/>
          <p:cNvPicPr/>
          <p:nvPr/>
        </p:nvPicPr>
        <p:blipFill>
          <a:blip r:embed="rId1"/>
          <a:stretch/>
        </p:blipFill>
        <p:spPr>
          <a:xfrm>
            <a:off x="352440" y="819000"/>
            <a:ext cx="8439120" cy="58960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2"/>
          <a:stretch/>
        </p:blipFill>
        <p:spPr>
          <a:xfrm>
            <a:off x="719280" y="1979640"/>
            <a:ext cx="5428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352440" y="1038240"/>
            <a:ext cx="8439120" cy="52484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2"/>
          <a:stretch/>
        </p:blipFill>
        <p:spPr>
          <a:xfrm>
            <a:off x="6715080" y="166356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3"/>
          <a:stretch/>
        </p:blipFill>
        <p:spPr>
          <a:xfrm>
            <a:off x="4786200" y="28702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4"/>
          <a:stretch/>
        </p:blipFill>
        <p:spPr>
          <a:xfrm>
            <a:off x="4357800" y="4060800"/>
            <a:ext cx="1143000" cy="3700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5"/>
          <a:stretch/>
        </p:blipFill>
        <p:spPr>
          <a:xfrm>
            <a:off x="2786040" y="5256360"/>
            <a:ext cx="114300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357120" y="1000080"/>
            <a:ext cx="8515440" cy="52768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2"/>
          <a:stretch/>
        </p:blipFill>
        <p:spPr>
          <a:xfrm>
            <a:off x="2571840" y="1684440"/>
            <a:ext cx="1500120" cy="3697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3"/>
          <a:stretch/>
        </p:blipFill>
        <p:spPr>
          <a:xfrm>
            <a:off x="4786200" y="3481560"/>
            <a:ext cx="1428840" cy="368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4"/>
          <a:stretch/>
        </p:blipFill>
        <p:spPr>
          <a:xfrm>
            <a:off x="6858000" y="346860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5"/>
          <a:stretch/>
        </p:blipFill>
        <p:spPr>
          <a:xfrm>
            <a:off x="7072200" y="5256360"/>
            <a:ext cx="1357560" cy="3697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6"/>
          <a:stretch/>
        </p:blipFill>
        <p:spPr>
          <a:xfrm>
            <a:off x="785880" y="585792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7"/>
          <a:stretch/>
        </p:blipFill>
        <p:spPr>
          <a:xfrm>
            <a:off x="2928960" y="5857920"/>
            <a:ext cx="13572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1" descr=""/>
          <p:cNvPicPr/>
          <p:nvPr/>
        </p:nvPicPr>
        <p:blipFill>
          <a:blip r:embed="rId1"/>
          <a:stretch/>
        </p:blipFill>
        <p:spPr>
          <a:xfrm>
            <a:off x="347760" y="1028880"/>
            <a:ext cx="8448480" cy="52578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2"/>
          <a:stretch/>
        </p:blipFill>
        <p:spPr>
          <a:xfrm>
            <a:off x="2000160" y="2286000"/>
            <a:ext cx="714600" cy="368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3"/>
          <a:stretch/>
        </p:blipFill>
        <p:spPr>
          <a:xfrm>
            <a:off x="3214800" y="2286000"/>
            <a:ext cx="1571400" cy="368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4"/>
          <a:stretch/>
        </p:blipFill>
        <p:spPr>
          <a:xfrm>
            <a:off x="5500800" y="2286000"/>
            <a:ext cx="1785960" cy="368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5"/>
          <a:stretch/>
        </p:blipFill>
        <p:spPr>
          <a:xfrm>
            <a:off x="6143760" y="347832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6"/>
          <a:stretch/>
        </p:blipFill>
        <p:spPr>
          <a:xfrm>
            <a:off x="7521480" y="348156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7"/>
          <a:stretch/>
        </p:blipFill>
        <p:spPr>
          <a:xfrm>
            <a:off x="1928880" y="4083120"/>
            <a:ext cx="1285920" cy="3682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8"/>
          <a:stretch/>
        </p:blipFill>
        <p:spPr>
          <a:xfrm>
            <a:off x="3500280" y="5275440"/>
            <a:ext cx="1571760" cy="3697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9"/>
          <a:stretch/>
        </p:blipFill>
        <p:spPr>
          <a:xfrm>
            <a:off x="5643720" y="5278320"/>
            <a:ext cx="11430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1" descr=""/>
          <p:cNvPicPr/>
          <p:nvPr/>
        </p:nvPicPr>
        <p:blipFill>
          <a:blip r:embed="rId1"/>
          <a:stretch/>
        </p:blipFill>
        <p:spPr>
          <a:xfrm>
            <a:off x="285840" y="752400"/>
            <a:ext cx="8572320" cy="59626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2"/>
          <a:stretch/>
        </p:blipFill>
        <p:spPr>
          <a:xfrm>
            <a:off x="4786200" y="3909960"/>
            <a:ext cx="1857600" cy="3682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3"/>
          <a:stretch/>
        </p:blipFill>
        <p:spPr>
          <a:xfrm>
            <a:off x="5572080" y="450072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4"/>
          <a:stretch/>
        </p:blipFill>
        <p:spPr>
          <a:xfrm>
            <a:off x="2143080" y="5695920"/>
            <a:ext cx="16430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1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178840" cy="60724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2"/>
          <a:stretch/>
        </p:blipFill>
        <p:spPr>
          <a:xfrm>
            <a:off x="6429240" y="695160"/>
            <a:ext cx="1500480" cy="3686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3"/>
          <a:stretch/>
        </p:blipFill>
        <p:spPr>
          <a:xfrm>
            <a:off x="6929280" y="1255680"/>
            <a:ext cx="1285920" cy="3700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4"/>
          <a:stretch/>
        </p:blipFill>
        <p:spPr>
          <a:xfrm>
            <a:off x="7358040" y="240984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5"/>
          <a:stretch/>
        </p:blipFill>
        <p:spPr>
          <a:xfrm>
            <a:off x="1214280" y="3541680"/>
            <a:ext cx="1143000" cy="3700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6"/>
          <a:stretch/>
        </p:blipFill>
        <p:spPr>
          <a:xfrm>
            <a:off x="3929040" y="4113360"/>
            <a:ext cx="1143000" cy="3697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7"/>
          <a:stretch/>
        </p:blipFill>
        <p:spPr>
          <a:xfrm>
            <a:off x="6643800" y="4695840"/>
            <a:ext cx="1643040" cy="368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8"/>
          <a:stretch/>
        </p:blipFill>
        <p:spPr>
          <a:xfrm>
            <a:off x="5500800" y="5846760"/>
            <a:ext cx="114300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19:37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